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D9A-CCCC-4B9A-8349-44AF750B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CAA-097C-41CA-8793-1666BE65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C43C1-9A49-4AD6-AF32-CEB00517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00AD5-7BF8-4620-9980-0B0E38BA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80CE3-774E-4C97-9851-54D864E2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E4965-573D-41E4-B860-7AB5A8C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5F1DD-E29A-478F-986A-24253A60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AAA166-CCBA-4422-BCAD-11BE134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D983C-674D-4B6A-A45F-3A3ADB67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DDBFB-753C-49A5-A8B0-405C80C3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BAA6-0C89-4AA3-A763-C760867E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46DB0-0D38-4B9D-87AA-2671D113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7755-A4C7-4615-A99E-6BE0140F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480C5-F06B-4E53-B42E-D6992ED7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B0B52-AA55-43D0-93B9-BAEE15CE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A6968-6021-449A-A4A8-4BA44999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FE10A-B46B-4353-9C2A-736BC621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E634F-1C01-4063-A193-604D9B5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40840-E7F2-49A4-87B7-A5B9659D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ADF50-E3F1-4CFC-9C61-7A4E25CB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1CCF-1F3F-4DEC-9A40-BC57047E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B5EA5-0CFE-40E7-9F6D-5188A78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AF60A-37E0-4F29-B034-63C84464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4C1-255F-4D04-AFFB-D1F41825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D0A2B-BD51-4ADC-9B52-3795BE8C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4FC85-A624-4D24-947D-3F00870A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9AEFE-2A0E-455D-B0DF-99132380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0E488-3491-4FEE-B8CA-9CF2DCE2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624D6-B396-4D65-B582-9C671F85D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F6471-F617-4A3B-A735-9F07C7E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D0CEE5-A1CD-4EF8-B2EB-5A1AE93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4D4EB-32F6-450C-9DF1-6D47148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71BBD-B9D0-43D9-9A9C-53D5446E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CB54F-14C9-4962-AF47-E5F6E629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CD6C-C24C-49D1-817F-47DD4BD8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263AD-B458-4C12-80F2-4E07EA76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028FE-A2C1-4D9D-855B-30E6F61C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B5F40-1119-4B32-9107-9091EE05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D9CA6-7816-4A1F-854B-5518C8A7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26B97-DC5E-40BE-819F-D1DD74B4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60BAC-C82F-4B0D-A2B2-22A3659D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AC286-6747-4DBD-8A92-8157FA74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F8937-D10A-45BF-88CD-9CCC87F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9698D-66C4-474D-8F0C-4FC2F541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DC693-C118-4C52-A45D-76D26915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F075-5495-4BB9-A3D9-56CB05EB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2EF063-14E3-43E4-8D9A-B2564F74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EDCE9-EBA7-439F-BFDC-32F07213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824C7-2D50-4D74-BC69-13EE41C0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011F4-207E-4932-BBD4-64588A6F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E89D3-FECD-462F-9B62-72243844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B98B6-D8D3-46B0-9431-2F680587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58FDF-FD5F-42B6-8324-27452F93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37772-2D22-40DF-954C-43309B84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84CA3-492D-46E6-95B3-97AB8B63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38C49-A589-4551-9CBD-9E529E41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C75A-2E69-41F5-94CA-5F2A05F2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B0EB6-5313-481A-890C-F816FD37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73299-465E-4CC6-B695-F2951A0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5720D-6822-4D8B-87E2-D6597097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B1804-BAC5-46FC-80F1-BF1BB501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1946F-423B-49B9-A562-31BE3EE1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EB73E8-979A-4A64-8007-F2E19E87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3D973-3A46-4864-815E-260F3D16E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3D86A-30D0-47B2-A699-CB83CC67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B8E29-2820-494D-9475-966A3F5B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F04A4-3185-4109-982E-640DE16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E1A-0958-4BA3-ACE7-B96368AC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8F8DE-7C55-4A76-BA96-CF731E33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92EDD-352D-44C1-B578-3D89F3DA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A7AC95-B62E-4E86-A733-97BCA9D0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2807B-2878-4ADF-96A6-1A350272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AF938-2584-4554-BCF4-CDB2EF83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999418-1AB3-43B0-A387-67545DC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560B4-E8AE-4E93-B195-6383493C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0AF88-5062-4325-94C0-990AEC7C1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D7F9A-7158-4361-A9AF-BBE18F18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09386-7247-4813-A778-543D1EE4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139-4946-4513-A3C8-72F7619F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122F1F-9A9E-4824-8B11-351DA808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A66C96-ACF8-46A1-9BED-235A7572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F4308-3E91-4C9D-B86A-089A4104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E29AC-1C41-4CC4-BD76-80B98E752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97940B-2D0D-430C-9320-51156FCD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F8A70-A180-49D1-BABE-C6B8BBA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C8367-2F2A-4A3F-8ED5-A91C91A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D6A22D-4531-47AB-8C9C-1730EBDA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39094-4973-490F-83A5-B23EAE59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E02C2C-1BB1-43E6-9EFA-D010B390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36E8-6F57-41B6-98BE-A8E5704F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F13D85-391D-4A04-BCEC-84B19BD8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F458EC-08FD-445C-87B9-14E976F3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05BD9A-041E-40DB-A7F5-03253A6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C7FA8-225D-47EF-96F3-3984E2AB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305BDD-3815-4016-8291-B5B36CFB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078E5-6430-408C-AF35-6D2243A8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F8434-771C-4106-B305-BCF1B515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4BDC96-FFAD-4447-A0E8-16FD44A1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97A74B-54FC-49EF-A102-79A71359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715B8-2AE5-4481-8F0E-19C45D92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D9BA-A950-4230-9207-F7CB0C6A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DB3E44-859D-4129-A235-A2E9D095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3F43D6-EFED-4899-8224-6420FDD5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A1414-78D6-41D0-B111-041F2BE7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F3EC1-0F6D-4800-99E2-61409CE5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8BADFE-6046-44C8-A608-A8101B12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454804-E8C2-4F3F-BC02-251E924A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D73644-ECC1-412D-A038-415B002F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47717-2C4A-4F15-BEDD-3BA7CF78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BBD71-B11A-48FF-867C-38351C8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7301F-A175-4877-B69C-7F89F33B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99A-01AE-43E8-9768-1F1F79F1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7499-76EF-4ACE-B192-13A73D8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F602BD-3B32-4941-840F-9B22D6E5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976E10-F521-44BD-AB33-46390EA4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1A6BC-EC24-498F-86BA-760B8A63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2F0194-6E15-4B0D-97ED-6359290B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3238B-F555-4281-A5A3-214EAF7F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13053-BC2A-4522-B3A9-2F6DCFA4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EE458E-7B96-4F8B-A99F-B046ED64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4826A-F366-4FC8-973D-735C6CB9D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12A21-F0BC-4BB7-B96D-A0037EF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73D764-297D-45F2-8E48-55FA878C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B396-972A-4728-B528-05485383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4B9561-6DFC-46AD-B7B8-FE89C984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FBC6E-03AC-44D8-8A85-09DD784F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664E1F-0EC5-48D1-B409-DC4A678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5B0A8-4E05-4C7D-A8DA-42E09C20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7622D-56AC-429A-B18A-E80C22CA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24E22-1AC8-4C7F-A3CE-C0854EBE5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6C539-4399-4FDE-91DD-8DDB6A47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BD05A-B0CE-4098-BD47-F464366A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125F8-CD81-4636-ACED-8AF44BE3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994CCA-6902-4EF2-9AF8-979E63D0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9450-C9EA-4243-822D-34E145E2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D4FAF1-C83C-41C4-8678-A40D001D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270E8-FC44-468B-B6DC-2C007021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66B966-DBEA-4E23-A2CA-ED274CC3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DD9267-8837-4236-9B62-5052B47C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2A33FE-A964-434B-9033-7679F1C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D83996-6917-4FBA-AD01-63C49B4B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E5F416-FBF0-4B4E-8C0C-767E361B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854FB2-72F4-41E1-B97E-21EEE593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07AFC-9B27-4A72-9D94-8ABCF5B7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2E181-87E2-4529-B2A5-BE32ADD2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E928-0575-4893-9215-BACF783E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9B2A18-6F6E-42ED-8603-A5952B7F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E73BA2-B3DC-4301-B5CC-60336F57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2879F-20D5-441C-8863-2EA40746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D114F-5170-47B4-8D3D-D67BE449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73CFE-59DA-4F3B-BF6A-2E53086A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69640-A7A5-42D0-97AE-353DA876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2B42F-27C3-4C9A-A3D2-72520390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5E33AB-B359-4EB0-80DE-7C0F8B4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1B977-F60A-46B3-B72E-0C6679B7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A0F63-DCFC-41ED-A491-AF617B9F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78C2-8D36-45AA-B786-89043B84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C5A5D9-FA6A-451F-9A76-773CDB43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593FDD-661F-40B3-8AFA-C7280706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8A330A-22E5-45B2-8AF8-F9E57E85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0BC1F-09BB-4CCE-831D-92067DC1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B9C17C-3DDC-4C70-9CC3-818D47F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E8908-E6F2-4EC3-8077-2D8C7F94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50A19-8864-4477-B368-45E0FA32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79CA5-0208-4AB5-83EF-7240931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D6798B-411F-4FB7-BBB7-B377D1C3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1F510-DD24-4814-ADC1-49262BA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7E6AE-A9A3-41EA-ACA2-2E3730DBA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EF5415-B100-472C-836D-F56BC9F7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8B7A14-1C38-4DD1-B478-97CEFDE4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2C0224-F782-4ABE-B020-1E52AA0B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A22B3E-1624-4564-9429-5802344B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0C757-BEB7-44D7-95EC-BC79B922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661D0E-B1A2-4E57-89BB-28EDEBCF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337C28-BF92-48FD-ADF4-D3B3557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4D24CC-1D67-4A00-8248-327F3354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23876-0DDA-456A-8F3F-62CB1A17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40D432-F084-4CA8-9DE1-B33EED1E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C4C6-ABEF-4224-8F1B-F97C09F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D15C81-6CA6-4BAF-8941-00A89D3E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CD294B-7C1E-406B-A9C9-14606DA0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F8B4C1-AB67-4996-9734-A25EF2BE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2443DF-4082-44FA-9DD1-14894913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A456B-3FE2-441B-835F-E8AAEC19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28233C-6CA4-4975-A854-E13BAC3D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048209-6727-4FB8-AA21-D77BC649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D53E4B-20D8-4294-B55F-5FD12A80F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98A42-908A-456D-BF17-51579DD6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B66BA2-4027-4758-993D-1458753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CB05-1739-4F77-82E5-C4799AC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ED3FE9-5BDA-4C12-B652-66EBE187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F73B7-946C-47E4-9DBD-25D8D77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B2B69A-2331-4931-BF0E-9844F168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D4AD38-822B-4F40-A39C-0D80C770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EDB918-B505-4C08-B951-E8B35268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1B7A43-A14C-41E1-8256-C6D48B55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8BC8D-DE6F-4C51-AABE-19025CB2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7526-8E4A-4103-822B-4EEFBDD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56B6-7E31-44A8-859B-A3E241B5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7C1-9FEB-4D4A-94CE-204DCAE3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822F1-CE4A-4926-ABF8-D8A18734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689CD-9AFA-4274-BA34-D090E33A5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8806-4ABB-4B52-82DB-4F1F6E0B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427D-015B-4044-90D2-4DC0648FA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46D1C-7215-4292-9832-CEFD29A0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0C4B-D572-4D12-A425-70F48EFB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B84CC-FB19-4429-95F2-C4F6E575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93DDC-8B7A-4064-A001-34AAF5BA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E5D1-2D2B-4DD2-B79E-4906CCB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EB71E-4E26-4AE9-B6EC-7125D12C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09C-72B6-4E77-9739-CF768A9C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90DB-3ACE-4167-B671-82999968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5FB1-C5F2-406C-9359-354EEE17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C79C-D652-421E-B4CD-A2E8E4B1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89D6F-C32C-411B-87A5-57C47848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3A25-895F-4063-B681-7CE7BAD4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FC880-BE8D-4833-BB07-C86C4343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6022-89A7-40B1-A11F-88BA6C5C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876A8-F4AB-414B-8AA0-70263045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26C8-3608-419F-AF48-F865162D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9E068-1A0B-45D7-8BF3-AF3356D2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0BB6-C509-4CDA-B43A-E88B2C55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D528-90FB-402F-BFB0-19029D2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E71B-B2E0-4D38-909B-646C307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85C1-EFE3-4C1A-8B1B-4594C136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03BAF-0F8F-43AC-818D-24589920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8CE88-F987-4381-A2EF-F5747626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3C91-617C-4E5E-969E-5AAB6E8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F837C-392B-485E-B861-B270113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6E8F8-63B8-406E-A4CF-FB1A6B75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C4AC-D9BE-44C4-9A06-37D40B17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C5F88-AF49-471D-94CF-51A23D9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6778-2115-4176-BC2E-C1C39E07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71509-36E4-4C8B-92B1-3F4042FC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CD0F-3262-4919-900C-2ECF2F8F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7F7D-F9AC-4CD2-94FD-9762E11A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CB16B-5C3C-466D-A6B9-E95056F2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C046-18CD-4DB1-9C7A-1741B550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7F6A5-90A6-41B2-836C-07D1746B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A0A0-390C-4754-853F-9314E5D8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509A-B653-4FE5-95ED-DB57FD90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90AB3-9CA9-42EF-BFF3-82E1725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D75F-C72B-4031-AC6C-CAACE2D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6D3D-AC30-404C-A3B5-AF7DECE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1435B-2ACD-4C61-9848-C801C848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A835A-1CA1-4708-8C3F-6D122CC9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616CE-9294-4192-86C5-B41422CA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71D7B-F20D-462F-980A-9212A4BF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957FD-A819-41BA-8528-4291DCF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03B9-5EDD-424B-BA57-99EF0A6A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7AF99-5F67-4619-9CEA-18D901F1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A9030-F134-4B7E-8370-4711B67E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8CAF8-0FE3-4221-969A-2BE56AE5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AE76E-BB3B-44CA-B958-14C5217B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2BAC-7380-4FC9-8A8A-A438947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43C45-D665-4EF6-922E-B43B7769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0CFC9-17D1-4655-A6A8-C2CD6D6F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8D734A-1842-47BE-A35A-B985C42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9011-4AAB-4FCE-B44C-33CC9C8B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B22B-9171-42EA-954F-40101B6C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316C6-E0CA-4B64-870A-F7547C55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73C1C-3ACD-4918-B2D2-BAE250C3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1118-AAE8-46CC-9607-93E4A2F8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343DE9-2B2C-437C-BEBF-18CB8155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F3A9F-D39F-4A68-9491-04EA2747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670-5B64-4562-A616-3008D89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83B6-9019-4D26-81F4-CF506460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F2D99-F747-49A6-A64D-0111C2C3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0A8F-FF12-47FC-A8DE-09FC5B72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4DEB4-295A-4939-9AA9-3E355E59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25694-6012-456C-BFD8-F2DDE1FB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0968-87BD-472E-BB63-C907DF3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097FF-26F8-4E52-84AA-CB4826B5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EBD78-9C5C-4F4B-9EB6-EDF9ABFD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94E06-83F4-4A0F-8EC5-96FA351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DE9A6-0E37-49F3-91BA-71EB88B9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234C-F0DC-4335-8DE1-FCD7A4B94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16E-CEA9-4BD7-A110-BADBFE386F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5EB9-A7AF-42CF-B78D-41AA13B08E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ADFF-1F74-473B-A66B-DF21BB9732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EF7E-14EB-4479-A534-625C252595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B6BD-43DF-476C-9AE3-40D64862CB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F0C9-FF4A-4533-97BA-7239D0862D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8104-4DC1-4E55-96FC-43A4AD62E5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1746-5256-4B5E-A263-B12F28D30A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FE88-57B9-4053-95DC-C217D205B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152D-A838-4FB7-836E-C6E3F32025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5ED5-539E-472D-BA91-2C113EB7A5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75EF-7332-46DC-84C4-D403618001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5732-32C1-4FE2-B037-C4A2B516FB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BA19-E4B7-4B79-8B62-F45782CA1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BBE4-DAA5-43E7-8B9E-602427A9B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F4ED-2D7D-44D7-B0ED-987522A4B7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791-4148-4422-8F98-8A0B0666C5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3DC9-3146-402C-9CA2-78ED91CD5C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CD9-9E80-477C-9E9E-909592C681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9B8-C721-486C-AA15-E851D95F01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5B0F-7FFE-40FF-8712-C8FF22D0B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8D49-E5D8-4F24-B8C3-1FA2C3E1BB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DCF-6CF2-474C-88E4-ED41A64767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494-EBD6-41F7-AEDB-8C44AD5510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C810-0CBB-4C84-BD0A-15915768D6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3F25-3C06-4ACC-99B8-70180E068E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6CE3-73DB-402A-A6B1-E10EF4DA30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7F7-6C82-4AA4-9240-EE4BE1E458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648F-C8B0-43F7-A574-D708AC1AE8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E42-7746-4D0C-A55D-0A3F05B989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AA33-6C31-438E-91B0-AF89DBA11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017E-AC06-40A8-B2D8-B16EBFFB1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BE2F-339F-4767-A487-52F2822C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2AAB-0EB5-4391-B942-7BE7014944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03B-BEAE-4A9E-89F3-4553B2210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E49A-E55F-42A8-A216-58A9F74EA0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1D2-46D1-43DD-903E-99550EF307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8830-33DA-44FE-B14F-3524414ED3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1E0E-854C-4410-9603-B598FE2E4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DC7C-45C8-42AE-8787-FEE76B1928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5E24-1F20-4B2C-A3B9-E966ED57A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004760" y="3029040"/>
            <a:ext cx="713448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304920" y="1193760"/>
            <a:ext cx="8534160" cy="52102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2"/>
          <a:stretch/>
        </p:blipFill>
        <p:spPr>
          <a:xfrm>
            <a:off x="750960" y="278604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3"/>
          <a:stretch/>
        </p:blipFill>
        <p:spPr>
          <a:xfrm>
            <a:off x="750960" y="4529160"/>
            <a:ext cx="54288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352440" y="820800"/>
            <a:ext cx="8334360" cy="58863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4" descr=""/>
          <p:cNvPicPr/>
          <p:nvPr/>
        </p:nvPicPr>
        <p:blipFill>
          <a:blip r:embed="rId2"/>
          <a:stretch/>
        </p:blipFill>
        <p:spPr>
          <a:xfrm>
            <a:off x="714240" y="765000"/>
            <a:ext cx="543240" cy="4305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4" descr=""/>
          <p:cNvPicPr/>
          <p:nvPr/>
        </p:nvPicPr>
        <p:blipFill>
          <a:blip r:embed="rId3"/>
          <a:stretch/>
        </p:blipFill>
        <p:spPr>
          <a:xfrm>
            <a:off x="714240" y="307188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4" descr=""/>
          <p:cNvPicPr/>
          <p:nvPr/>
        </p:nvPicPr>
        <p:blipFill>
          <a:blip r:embed="rId4"/>
          <a:stretch/>
        </p:blipFill>
        <p:spPr>
          <a:xfrm>
            <a:off x="714240" y="4878360"/>
            <a:ext cx="5432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244440" y="822240"/>
            <a:ext cx="8534520" cy="270504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2" descr=""/>
          <p:cNvPicPr/>
          <p:nvPr/>
        </p:nvPicPr>
        <p:blipFill>
          <a:blip r:embed="rId2"/>
          <a:stretch/>
        </p:blipFill>
        <p:spPr>
          <a:xfrm>
            <a:off x="304920" y="3571920"/>
            <a:ext cx="8439120" cy="313380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3"/>
          <a:stretch/>
        </p:blipFill>
        <p:spPr>
          <a:xfrm>
            <a:off x="2571840" y="167472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4" descr=""/>
          <p:cNvPicPr/>
          <p:nvPr/>
        </p:nvPicPr>
        <p:blipFill>
          <a:blip r:embed="rId4"/>
          <a:stretch/>
        </p:blipFill>
        <p:spPr>
          <a:xfrm>
            <a:off x="2143080" y="2571840"/>
            <a:ext cx="1143000" cy="392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4" descr=""/>
          <p:cNvPicPr/>
          <p:nvPr/>
        </p:nvPicPr>
        <p:blipFill>
          <a:blip r:embed="rId5"/>
          <a:stretch/>
        </p:blipFill>
        <p:spPr>
          <a:xfrm>
            <a:off x="2500200" y="3052800"/>
            <a:ext cx="1000080" cy="3938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4" descr=""/>
          <p:cNvPicPr/>
          <p:nvPr/>
        </p:nvPicPr>
        <p:blipFill>
          <a:blip r:embed="rId6"/>
          <a:stretch/>
        </p:blipFill>
        <p:spPr>
          <a:xfrm>
            <a:off x="1571760" y="351792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4" descr=""/>
          <p:cNvPicPr/>
          <p:nvPr/>
        </p:nvPicPr>
        <p:blipFill>
          <a:blip r:embed="rId7"/>
          <a:stretch/>
        </p:blipFill>
        <p:spPr>
          <a:xfrm>
            <a:off x="4000680" y="397980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8"/>
          <a:stretch/>
        </p:blipFill>
        <p:spPr>
          <a:xfrm>
            <a:off x="2857680" y="5786280"/>
            <a:ext cx="1357200" cy="392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9"/>
          <a:stretch/>
        </p:blipFill>
        <p:spPr>
          <a:xfrm>
            <a:off x="5429160" y="578628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4" descr=""/>
          <p:cNvPicPr/>
          <p:nvPr/>
        </p:nvPicPr>
        <p:blipFill>
          <a:blip r:embed="rId10"/>
          <a:stretch/>
        </p:blipFill>
        <p:spPr>
          <a:xfrm>
            <a:off x="1000080" y="6256440"/>
            <a:ext cx="10000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图片 1" descr=""/>
          <p:cNvPicPr/>
          <p:nvPr/>
        </p:nvPicPr>
        <p:blipFill>
          <a:blip r:embed="rId1"/>
          <a:stretch/>
        </p:blipFill>
        <p:spPr>
          <a:xfrm>
            <a:off x="366840" y="1138320"/>
            <a:ext cx="8410320" cy="458136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4" descr=""/>
          <p:cNvPicPr/>
          <p:nvPr/>
        </p:nvPicPr>
        <p:blipFill>
          <a:blip r:embed="rId2"/>
          <a:stretch/>
        </p:blipFill>
        <p:spPr>
          <a:xfrm>
            <a:off x="2857680" y="157176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3"/>
          <a:stretch/>
        </p:blipFill>
        <p:spPr>
          <a:xfrm>
            <a:off x="5786280" y="1603440"/>
            <a:ext cx="1214640" cy="3920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4"/>
          <a:stretch/>
        </p:blipFill>
        <p:spPr>
          <a:xfrm>
            <a:off x="4857840" y="250020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5"/>
          <a:stretch/>
        </p:blipFill>
        <p:spPr>
          <a:xfrm>
            <a:off x="5929200" y="250020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6"/>
          <a:stretch/>
        </p:blipFill>
        <p:spPr>
          <a:xfrm>
            <a:off x="7286760" y="2500200"/>
            <a:ext cx="1000080" cy="39240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4" descr=""/>
          <p:cNvPicPr/>
          <p:nvPr/>
        </p:nvPicPr>
        <p:blipFill>
          <a:blip r:embed="rId7"/>
          <a:stretch/>
        </p:blipFill>
        <p:spPr>
          <a:xfrm>
            <a:off x="2928960" y="3857760"/>
            <a:ext cx="1571760" cy="3920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4" descr=""/>
          <p:cNvPicPr/>
          <p:nvPr/>
        </p:nvPicPr>
        <p:blipFill>
          <a:blip r:embed="rId8"/>
          <a:stretch/>
        </p:blipFill>
        <p:spPr>
          <a:xfrm>
            <a:off x="4857840" y="3857760"/>
            <a:ext cx="1000080" cy="392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4" descr=""/>
          <p:cNvPicPr/>
          <p:nvPr/>
        </p:nvPicPr>
        <p:blipFill>
          <a:blip r:embed="rId9"/>
          <a:stretch/>
        </p:blipFill>
        <p:spPr>
          <a:xfrm>
            <a:off x="6286680" y="3878280"/>
            <a:ext cx="1571400" cy="3938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" descr=""/>
          <p:cNvPicPr/>
          <p:nvPr/>
        </p:nvPicPr>
        <p:blipFill>
          <a:blip r:embed="rId10"/>
          <a:stretch/>
        </p:blipFill>
        <p:spPr>
          <a:xfrm>
            <a:off x="1857240" y="5256360"/>
            <a:ext cx="1000440" cy="3934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"/>
          <p:cNvPicPr/>
          <p:nvPr/>
        </p:nvPicPr>
        <p:blipFill>
          <a:blip r:embed="rId11"/>
          <a:stretch/>
        </p:blipFill>
        <p:spPr>
          <a:xfrm>
            <a:off x="3214800" y="5261040"/>
            <a:ext cx="10000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图片 2" descr=""/>
          <p:cNvPicPr/>
          <p:nvPr/>
        </p:nvPicPr>
        <p:blipFill>
          <a:blip r:embed="rId1"/>
          <a:stretch/>
        </p:blipFill>
        <p:spPr>
          <a:xfrm>
            <a:off x="347760" y="968400"/>
            <a:ext cx="844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图片 1" descr=""/>
          <p:cNvPicPr/>
          <p:nvPr/>
        </p:nvPicPr>
        <p:blipFill>
          <a:blip r:embed="rId1"/>
          <a:stretch/>
        </p:blipFill>
        <p:spPr>
          <a:xfrm>
            <a:off x="347760" y="1871640"/>
            <a:ext cx="8448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图片 1" descr=""/>
          <p:cNvPicPr/>
          <p:nvPr/>
        </p:nvPicPr>
        <p:blipFill>
          <a:blip r:embed="rId1"/>
          <a:stretch/>
        </p:blipFill>
        <p:spPr>
          <a:xfrm>
            <a:off x="571680" y="708120"/>
            <a:ext cx="8067600" cy="6134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4" descr=""/>
          <p:cNvPicPr/>
          <p:nvPr/>
        </p:nvPicPr>
        <p:blipFill>
          <a:blip r:embed="rId2"/>
          <a:stretch/>
        </p:blipFill>
        <p:spPr>
          <a:xfrm>
            <a:off x="5000760" y="1746360"/>
            <a:ext cx="2214360" cy="39204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4" descr=""/>
          <p:cNvPicPr/>
          <p:nvPr/>
        </p:nvPicPr>
        <p:blipFill>
          <a:blip r:embed="rId3"/>
          <a:stretch/>
        </p:blipFill>
        <p:spPr>
          <a:xfrm>
            <a:off x="6000840" y="2643120"/>
            <a:ext cx="1214280" cy="3920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4" descr=""/>
          <p:cNvPicPr/>
          <p:nvPr/>
        </p:nvPicPr>
        <p:blipFill>
          <a:blip r:embed="rId4"/>
          <a:stretch/>
        </p:blipFill>
        <p:spPr>
          <a:xfrm>
            <a:off x="2428920" y="4500720"/>
            <a:ext cx="857160" cy="3920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4" descr=""/>
          <p:cNvPicPr/>
          <p:nvPr/>
        </p:nvPicPr>
        <p:blipFill>
          <a:blip r:embed="rId5"/>
          <a:stretch/>
        </p:blipFill>
        <p:spPr>
          <a:xfrm>
            <a:off x="785880" y="4929120"/>
            <a:ext cx="1428840" cy="3920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4" descr=""/>
          <p:cNvPicPr/>
          <p:nvPr/>
        </p:nvPicPr>
        <p:blipFill>
          <a:blip r:embed="rId6"/>
          <a:stretch/>
        </p:blipFill>
        <p:spPr>
          <a:xfrm>
            <a:off x="5214960" y="3846600"/>
            <a:ext cx="2000160" cy="39348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"/>
          <p:cNvPicPr/>
          <p:nvPr/>
        </p:nvPicPr>
        <p:blipFill>
          <a:blip r:embed="rId7"/>
          <a:stretch/>
        </p:blipFill>
        <p:spPr>
          <a:xfrm>
            <a:off x="4286160" y="5846760"/>
            <a:ext cx="221472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15:49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